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CB5F-58EB-4B91-9B25-0D65CA97B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04FA-C994-4A16-AF3C-8342ECB01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1717-745A-49E8-8CF7-26AC3D468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7DB4-9F54-45BF-ABBB-5F4753833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31E44-9226-42B8-AEB0-92B8776F1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E33EF-34F1-4082-B619-DBC2463F2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7D9B7-F355-4F9A-BF9F-083696FEB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9AE47-DACB-4FD1-A6B2-0691B1BAF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2AF77-517C-4348-A47C-A1098356F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8F6E5-4B65-4DC8-AD5E-B42DFA61F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D702E-8BCE-4A00-9902-213F25DE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A0C0-556E-4348-8B45-076F17BBF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49C70-3E52-4A2A-8D2E-7B182F43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72037-03BC-4B10-AB27-F89914E4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2EE76-729B-4F1D-91EE-DBB1F3A22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3F93A-BAE5-480A-8B05-2D4FB19DD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BD305-1BFA-4FDB-818E-80719885E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D11298-0078-4DF5-9CAA-566D14F9A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EFA867-B71D-45D3-9E53-F405E95F2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C33AC4-C994-46D8-8CB9-6CD459A93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9FC1BD-E879-47C5-B871-13209F990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A5FDF6-AF59-45A6-8EB0-CD0DED4F2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8FB9-7C6C-4C54-A7D1-653A0311D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5C7F93-9A40-49E2-965E-AB6ACC672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435B71-AD23-43DE-8E69-B54F0912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E58F90-49C2-49A7-92E7-4D7AEAD6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565C9F-84E2-42F5-851F-8E140267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C90708-80AA-4309-B9F3-FB159D3A7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F98149-F4F4-4B96-96DC-AA25A753A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EE1206-0849-430A-9BA8-C6481F2AA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101D5-293F-44DA-98D5-A2C029DFE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C1E99-D384-4786-960B-F85892296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8D876-4785-4EDB-BDE5-ACD03963A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77AA-276F-40A1-AF93-A375BABFB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A11C2-1FEB-4AB7-AEEC-7FABDD95B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7EE19-6F5A-4ED5-901A-A22FB696E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7C002-5DF4-4FF2-A444-A90E691C3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ECD44-753E-47AC-B25B-BAEF35271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FCD8D-CE4B-4D08-A900-7C0B3BCF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6BF84-9825-4ED9-8CE0-985E16F9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C7AF8-1EBE-46CF-B12E-5C3385536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15FFE-D17C-473A-9B63-10A6E8D52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17A45-DC58-4F69-B5DC-38C1F471B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6A9294-3763-47E8-9A12-EA35ABA66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ABFB-8CC4-4EFA-9DE8-4F739865D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DD4A13-EDC5-4421-8423-39C3A7A24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1AD600-451C-420B-B4A5-51337CB79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744128-73C7-4A0C-9372-91DC47F47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8449CA-A0E2-4282-ADF8-60273034A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C70412-AE99-4D2B-A8CE-0108B66A8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CE7B01-67C3-435F-8230-AD3988D1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62F0E1-4E20-4B7E-AE31-65D3608E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931912-3F55-4633-80CA-6F9C82F6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4D658D-BB39-4705-85E9-033DA63AF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E8B802-8064-4ED2-9B65-9D1098208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3A0F-2273-4259-BD78-70E97AE14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AB412E-49C3-4C2A-9CBC-67DCDC682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A44DB2-BEED-44C0-8B9E-926F8D9D6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EF3459-C0F5-478E-A5D7-2AEBD5207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042F12-9734-4143-A7A7-9D87839CA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FD444E-EB9E-4A62-B1C9-52F4FBF3E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D2004D-5153-4F30-8907-6778FBD8E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BF6A7C-DC0E-455C-BE80-9695FD6EF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FA0408-1BCF-48CD-85DA-A4641357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B60A8B-167A-436E-A6A6-0F5C0AC4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F7605C-DBC1-422B-BB5C-76B75050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B2E4-7508-429E-972B-21CCC2F4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57E86E-1587-407A-931B-9C8934DA4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FC302C-9C16-41D1-AA1A-B28C49AA3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F627D0-2B4D-4B07-B824-5D7316E21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52504D-2D37-4D48-B79E-08AE7DD85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481272-4886-4F2B-8C4D-63329514E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08B925-01E6-47CB-BB5A-F33407803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AC9DDD-EC30-40D4-ABD7-6EA19D082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654C92-35AC-456F-A29A-825B4DC4A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DC0544-91B5-4A57-8DD9-C757B4E87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1361E0-46D8-4109-AC70-F63292AB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0FD3-10E7-4EC8-A488-E58774F3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B00D64-7E5F-49DE-9C6C-A824725A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265A0D-24FB-48E3-8254-5FD4C090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15AA24-5D69-44F2-ABB1-33DB950B7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555585-85C8-41B4-BB36-E76ECA978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5AB6CE-674F-48DB-B840-4E905E082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6E19-2B4C-487A-9AB3-3B96A3DD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c0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323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6f0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0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aca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2323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323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c0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9E5DF-3F8C-4A83-94B0-ED0DA01C24D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6c0aa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9d8cc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9d8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cece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6c0aa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cece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6c0aa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6c0aa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323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6f0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0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aca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2323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323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2FDEA-3E05-4273-B101-042F45F3884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c0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c0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323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6f0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0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aca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2323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323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03365-053E-4456-BBFF-DA381BA76AD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6c0aa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9d8cc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9d8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cece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6c0aa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cece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6c0aa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6c0aa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3ded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3ded1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6f0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0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aca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ded1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3ded1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A6765-32B7-4DE1-8553-21C5C57BDFA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c0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c0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323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6f0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0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aca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2323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323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BD453-A707-499C-9AFC-E09CD4E5E04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c0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c0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323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6f0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0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aca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2323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323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09196-0B01-40D3-B959-35517E5964D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c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323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6f0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0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aca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2323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323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00899-AC9F-447E-8C43-755A51DA3B6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Заголовок 1" descr=""/>
          <p:cNvPicPr/>
          <p:nvPr/>
        </p:nvPicPr>
        <p:blipFill>
          <a:blip r:embed="rId1"/>
          <a:stretch/>
        </p:blipFill>
        <p:spPr>
          <a:xfrm>
            <a:off x="1974960" y="360360"/>
            <a:ext cx="6894360" cy="31258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" descr=""/>
          <p:cNvPicPr/>
          <p:nvPr/>
        </p:nvPicPr>
        <p:blipFill>
          <a:blip r:embed="rId2"/>
          <a:stretch/>
        </p:blipFill>
        <p:spPr>
          <a:xfrm>
            <a:off x="3203640" y="2997360"/>
            <a:ext cx="3786120" cy="3295440"/>
          </a:xfrm>
          <a:prstGeom prst="rect">
            <a:avLst/>
          </a:prstGeom>
          <a:ln w="0">
            <a:noFill/>
          </a:ln>
        </p:spPr>
      </p:pic>
      <p:sp>
        <p:nvSpPr>
          <p:cNvPr id="353" name="Прямоугольник 3"/>
          <p:cNvSpPr/>
          <p:nvPr/>
        </p:nvSpPr>
        <p:spPr>
          <a:xfrm>
            <a:off x="6156360" y="5950080"/>
            <a:ext cx="2987640" cy="769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45f07"/>
                </a:solidFill>
                <a:latin typeface="Century Schoolbook"/>
              </a:rPr>
              <a:t>Блейхер Жанна Андрее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45f07"/>
                </a:solidFill>
                <a:latin typeface="Century Schoolbook"/>
              </a:rPr>
              <a:t>старший воспита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45f07"/>
                </a:solidFill>
                <a:latin typeface="Century Schoolbook"/>
              </a:rPr>
              <a:t>МБДОУ «ЦРР – детский сад №41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23232"/>
                </a:solidFill>
                <a:latin typeface="Century Schoolbook"/>
              </a:rPr>
              <a:t>ТЕРМИН «ПЛАН» ТРАКТУЕТСЯ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ак система взаимосвязанных, направленных на достижение единой цели плановых заданий, определяющих порядок, сроки и последовательность осуществления программ, работ или отдельных мероприятий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пособ кратко (или полно) зафиксировать целевые ориентиры, познавательные задачи, программное содержание, последовательность организации и проведения образовательной деятельности с детьми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499680"/>
            <a:ext cx="746748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ПО ВИДАМ ПЛАНЫ ДЕЛЯТСЯ </a:t>
            </a:r>
            <a:endParaRPr b="0" lang="en-US" sz="32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28400" y="1000080"/>
            <a:ext cx="7467480" cy="54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Прямоугольник 3"/>
          <p:cNvSpPr/>
          <p:nvPr/>
        </p:nvSpPr>
        <p:spPr>
          <a:xfrm>
            <a:off x="2143080" y="1285920"/>
            <a:ext cx="4286160" cy="914400"/>
          </a:xfrm>
          <a:prstGeom prst="rect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4"/>
          <p:cNvSpPr/>
          <p:nvPr/>
        </p:nvSpPr>
        <p:spPr>
          <a:xfrm>
            <a:off x="3232800" y="1357200"/>
            <a:ext cx="20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ерспектив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рямоугольник 5"/>
          <p:cNvSpPr/>
          <p:nvPr/>
        </p:nvSpPr>
        <p:spPr>
          <a:xfrm>
            <a:off x="2143080" y="2643120"/>
            <a:ext cx="4286160" cy="914400"/>
          </a:xfrm>
          <a:prstGeom prst="rect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Комплексно-тема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оугольник 6"/>
          <p:cNvSpPr/>
          <p:nvPr/>
        </p:nvSpPr>
        <p:spPr>
          <a:xfrm>
            <a:off x="2214720" y="4214880"/>
            <a:ext cx="4214520" cy="914400"/>
          </a:xfrm>
          <a:prstGeom prst="rect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Календар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ая соединительная линия 10"/>
          <p:cNvSpPr/>
          <p:nvPr/>
        </p:nvSpPr>
        <p:spPr>
          <a:xfrm flipV="1">
            <a:off x="1071720" y="785520"/>
            <a:ext cx="0" cy="4071960"/>
          </a:xfrm>
          <a:prstGeom prst="line">
            <a:avLst/>
          </a:prstGeom>
          <a:ln w="12600">
            <a:solidFill>
              <a:srgbClr val="ff6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5" name="Прямая со стрелкой 16"/>
          <p:cNvCxnSpPr/>
          <p:nvPr/>
        </p:nvCxnSpPr>
        <p:spPr>
          <a:xfrm>
            <a:off x="1071360" y="1714680"/>
            <a:ext cx="857880" cy="216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cxnSp>
        <p:nvCxnSpPr>
          <p:cNvPr id="386" name="Прямая со стрелкой 18"/>
          <p:cNvCxnSpPr/>
          <p:nvPr/>
        </p:nvCxnSpPr>
        <p:spPr>
          <a:xfrm>
            <a:off x="1071720" y="2999880"/>
            <a:ext cx="786240" cy="252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cxnSp>
        <p:nvCxnSpPr>
          <p:cNvPr id="387" name="Прямая со стрелкой 20"/>
          <p:cNvCxnSpPr/>
          <p:nvPr/>
        </p:nvCxnSpPr>
        <p:spPr>
          <a:xfrm>
            <a:off x="1071720" y="4857840"/>
            <a:ext cx="786240" cy="216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sp>
        <p:nvSpPr>
          <p:cNvPr id="388" name="Прямая соединительная линия 22"/>
          <p:cNvSpPr/>
          <p:nvPr/>
        </p:nvSpPr>
        <p:spPr>
          <a:xfrm flipH="1" flipV="1">
            <a:off x="1071360" y="785880"/>
            <a:ext cx="571320" cy="1440"/>
          </a:xfrm>
          <a:prstGeom prst="line">
            <a:avLst/>
          </a:prstGeom>
          <a:ln w="12600">
            <a:solidFill>
              <a:srgbClr val="ff6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ая соединительная линия 25"/>
          <p:cNvSpPr/>
          <p:nvPr/>
        </p:nvSpPr>
        <p:spPr>
          <a:xfrm flipH="1">
            <a:off x="7429680" y="785880"/>
            <a:ext cx="1440" cy="4073400"/>
          </a:xfrm>
          <a:prstGeom prst="line">
            <a:avLst/>
          </a:prstGeom>
          <a:ln w="12600">
            <a:solidFill>
              <a:srgbClr val="ff6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ая соединительная линия 28"/>
          <p:cNvSpPr/>
          <p:nvPr/>
        </p:nvSpPr>
        <p:spPr>
          <a:xfrm flipH="1" flipV="1">
            <a:off x="6858000" y="785880"/>
            <a:ext cx="571680" cy="1440"/>
          </a:xfrm>
          <a:prstGeom prst="line">
            <a:avLst/>
          </a:prstGeom>
          <a:ln w="12600">
            <a:solidFill>
              <a:srgbClr val="ff6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1" name="Прямая со стрелкой 32"/>
          <p:cNvCxnSpPr/>
          <p:nvPr/>
        </p:nvCxnSpPr>
        <p:spPr>
          <a:xfrm flipH="1" flipV="1">
            <a:off x="6714360" y="1714320"/>
            <a:ext cx="715320" cy="216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cxnSp>
        <p:nvCxnSpPr>
          <p:cNvPr id="392" name="Прямая со стрелкой 37"/>
          <p:cNvCxnSpPr/>
          <p:nvPr/>
        </p:nvCxnSpPr>
        <p:spPr>
          <a:xfrm flipH="1" flipV="1">
            <a:off x="6714360" y="2999520"/>
            <a:ext cx="715320" cy="252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cxnSp>
        <p:nvCxnSpPr>
          <p:cNvPr id="393" name="Прямая со стрелкой 43"/>
          <p:cNvCxnSpPr/>
          <p:nvPr/>
        </p:nvCxnSpPr>
        <p:spPr>
          <a:xfrm flipH="1" flipV="1">
            <a:off x="6714360" y="4857480"/>
            <a:ext cx="715320" cy="216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3232"/>
                </a:solidFill>
                <a:latin typeface="Century Schoolbook"/>
              </a:rPr>
              <a:t>СЛАБЫЕ СТОРОНЫ ПЕРСПЕКТИВНОГО ПЛАНИРОВАНИЯ</a:t>
            </a:r>
            <a:r>
              <a:rPr b="0" lang="ru-RU" sz="3000" spc="-1" strike="noStrike">
                <a:solidFill>
                  <a:srgbClr val="323232"/>
                </a:solidFill>
                <a:latin typeface="Century Schoolbook"/>
              </a:rPr>
              <a:t>: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перспективное планирование, в отсутствии календарного (комплексно – тематического) плана, не раскрывает содержания деятельности, методические приемы, не конкретизирует дидактическое обеспечение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не всегда позволяет равномерно распределить деятельность по ее видам в течение определенного отрезка времени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избежать прецедента дополнительной нагрузки на детей или ее необоснованного отсутствия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затрудняет осуществление методического контроля над выполнением планируемых мероприятий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23232"/>
                </a:solidFill>
                <a:latin typeface="Century Schoolbook"/>
              </a:rPr>
              <a:t>КОМПЛЕКСНО – ТЕМАТИЧЕСКИЙ ПЛАН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6840" y="999720"/>
            <a:ext cx="746748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разовательным содержанием комплексно-тематического план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ются событ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зволяющие дошкольнику успешно «ориентироваться в четырех мирах действительности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е живой и неживой природы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творном мире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е общественных (социальных отношений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е собственной внутренней жизнедеятельности» (Концепция дошкольного воспитания)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6840" y="857160"/>
            <a:ext cx="7467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 разработке комплексно – тематического плана педагогом выделяются основные «узловые» темы. Темы занятий «многослойны», т. е. они повторяются с определенным усложнением в каждой возрастной группе. Возвращение к теме в иных педагогических условиях, на другом содержании, возрастном уровне развития помогают ребенку успешно освоить информацию, овладеть новыми способами общения и познания окружающего мира, формирует компетентность как особую «практическую умелость, опыт» при решении несложных жизненных ситуаций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но – тематический план может составляться воспитателем при участии специалистов ДОУ, которые на своих занятиях творчески обогащают и дополняют возможности детей, добиваясь при интеграции высоких образовательных эффектов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6840" y="713880"/>
            <a:ext cx="74674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 тематического содержания, определение форм работы по его реализации и интеграции осуществляется педагогом на месяц. Основным принципом при подборе содержания являются образовательные области и решение их основных задач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323232"/>
                </a:solidFill>
                <a:latin typeface="Century Schoolbook"/>
              </a:rPr>
              <a:t>СОДЕРЖАНИЕ КАЛЕНДАРНОГО ПЛАНА СТРУКТУРИРУЕТСЯ ПО БЛОКАМ И ПРЕДСТАВЛЯЕТСЯ В ВИДЕ СХЕМЫ.</a:t>
            </a:r>
            <a:endParaRPr b="0" lang="en-US" sz="25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Образовательный блок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(сетка занятий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Блок совместной деятельности взрослого и дете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Блок самостоятельной деятельности детей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99680" y="142920"/>
            <a:ext cx="792972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КАЛЕНДАРНОЕ  ПЛАНИРОВАНИЕ  ВОСПИТАТЕЛЬНО-ОБРАЗОВАТЕЛЬНОЙ РАБОТЫ</a:t>
            </a:r>
            <a:br>
              <a:rPr sz="1200"/>
            </a:br>
            <a:r>
              <a:rPr b="1" lang="ru-RU" sz="12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           НА ПЕРИОД:__________________________________________, ГРУППА:_____________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ТЕМА:_________________________________________________________________________________________</a:t>
            </a:r>
            <a:br>
              <a:rPr sz="1200"/>
            </a:br>
            <a:r>
              <a:rPr b="0" lang="ru-RU" sz="12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ЦЕЛЬ:_______________________________________________________________________________________</a:t>
            </a:r>
            <a:br>
              <a:rPr sz="1200"/>
            </a:br>
            <a:r>
              <a:rPr b="0" lang="ru-RU" sz="1200" spc="-1" strike="noStrike">
                <a:solidFill>
                  <a:srgbClr val="323232"/>
                </a:solidFill>
                <a:latin typeface="Century Schoolbook"/>
              </a:rPr>
              <a:t>ИТОГОВОЕ</a:t>
            </a:r>
            <a:r>
              <a:rPr b="0" lang="en-US" sz="1200" spc="-1" strike="noStrike">
                <a:solidFill>
                  <a:srgbClr val="323232"/>
                </a:solidFill>
                <a:latin typeface="Century Schoolbook"/>
              </a:rPr>
              <a:t>     </a:t>
            </a:r>
            <a:r>
              <a:rPr b="0" lang="ru-RU" sz="1200" spc="-1" strike="noStrike">
                <a:solidFill>
                  <a:srgbClr val="323232"/>
                </a:solidFill>
                <a:latin typeface="Century Schoolbook"/>
              </a:rPr>
              <a:t>МЕРОПРИЯТИЕ:________________________________________________ДАТА:____</a:t>
            </a:r>
            <a:br>
              <a:rPr sz="1200"/>
            </a:br>
            <a:endParaRPr b="0" lang="en-US" sz="1200" spc="-1" strike="noStrike">
              <a:solidFill>
                <a:srgbClr val="323232"/>
              </a:solidFill>
              <a:latin typeface="Century Schoolbook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357120" y="1928880"/>
          <a:ext cx="8286840" cy="4572000"/>
        </p:xfrm>
        <a:graphic>
          <a:graphicData uri="http://schemas.openxmlformats.org/drawingml/2006/table">
            <a:tbl>
              <a:tblPr/>
              <a:tblGrid>
                <a:gridCol w="689040"/>
                <a:gridCol w="574560"/>
                <a:gridCol w="719280"/>
                <a:gridCol w="1386000"/>
                <a:gridCol w="172800"/>
                <a:gridCol w="1559160"/>
                <a:gridCol w="1460520"/>
                <a:gridCol w="1725480"/>
              </a:tblGrid>
              <a:tr h="374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ни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 недел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жи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теграц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р. обл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вместная деятельность детей  с воспитателе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ганизация развивающей среды для самостоятельной детской деятель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заимодей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в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 родителя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70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руппов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9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р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.т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.худ.л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ренняя гимнаст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ьчиковая гимнаст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журство по столово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д в уголке прир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итие к.г.н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ы в центре активности по интереса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е беседы по запросам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506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ул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людение з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туативная бесе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довое поруч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ы с природным  и выносным материало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771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перед сно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ение сказки перед сно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лушивание спокойной музы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итие КГ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ы «Усыплялочки»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лакса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оловина дня, вече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мнастика в постели, ходьба по массажной дорожке, водные процеду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материалов к занятию, атрибутов к инра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23232"/>
                </a:solidFill>
                <a:latin typeface="Century Schoolbook"/>
              </a:rPr>
              <a:t>ОБРАЗОВАТЕЛЬНАЯ ДЕЯТЕЛЬНОСТЬ В ХОДЕ РЕЖИМНЫХ МОМЕНТОВ 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 планировании образовательного содержания в ходе режимных моментов целесообразно использовать циклограмму, позволяющую педагогу установить «разумный баланс» между видами образовательной деятельности, амплифицировать развитие детей по основным направлениям: физическому, социально-личностному, познавательно-речевому и художественно-эстетическом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500040" y="2506680"/>
            <a:ext cx="7215120" cy="4351320"/>
          </a:xfrm>
          <a:prstGeom prst="rect">
            <a:avLst/>
          </a:prstGeom>
          <a:ln w="0">
            <a:noFill/>
          </a:ln>
        </p:spPr>
      </p:pic>
      <p:pic>
        <p:nvPicPr>
          <p:cNvPr id="355" name="Заголовок 1" descr=""/>
          <p:cNvPicPr/>
          <p:nvPr/>
        </p:nvPicPr>
        <p:blipFill>
          <a:blip r:embed="rId2"/>
          <a:stretch/>
        </p:blipFill>
        <p:spPr>
          <a:xfrm>
            <a:off x="55440" y="49320"/>
            <a:ext cx="852192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6840" y="571680"/>
            <a:ext cx="782964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b45f07"/>
                </a:solidFill>
                <a:latin typeface="Arial"/>
                <a:ea typeface="Arial"/>
              </a:rPr>
              <a:t>Благодарю </a:t>
            </a:r>
            <a:endParaRPr b="0" lang="en-US" sz="8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b45f07"/>
                </a:solidFill>
                <a:latin typeface="Arial"/>
                <a:ea typeface="Arial"/>
              </a:rPr>
              <a:t>за внимание</a:t>
            </a:r>
            <a:endParaRPr b="0" lang="en-US" sz="8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8" name="Picture 1" descr=""/>
          <p:cNvPicPr/>
          <p:nvPr/>
        </p:nvPicPr>
        <p:blipFill>
          <a:blip r:embed="rId1"/>
          <a:stretch/>
        </p:blipFill>
        <p:spPr>
          <a:xfrm>
            <a:off x="3571920" y="3286080"/>
            <a:ext cx="378612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Rectangle 2" descr=""/>
          <p:cNvPicPr/>
          <p:nvPr/>
        </p:nvPicPr>
        <p:blipFill>
          <a:blip r:embed="rId1"/>
          <a:stretch/>
        </p:blipFill>
        <p:spPr>
          <a:xfrm>
            <a:off x="401760" y="669960"/>
            <a:ext cx="8072280" cy="51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456840" y="571320"/>
            <a:ext cx="746748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Задачи планирования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Обеспечение целенаправленного развития образовательных областей образовательной программы, их интеграции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оздание базы для осуществления контроля за ОП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редоставление информации об организации деятельности возрастной группы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Реализацию новых форм взаимодействия с детьми, родителями в структуре планирования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ПЛАНИРОВАНИЕ ОТРАЖАЕТ</a:t>
            </a:r>
            <a:br>
              <a:rPr sz="3600"/>
            </a:br>
            <a:endParaRPr b="0" lang="en-US" sz="36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ход реализации основной образовательной программы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пецифику и развитие приоритетных направлений деятельности ДОУ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станавливает связи между занятиями, игрой и трудом детей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ход и результаты реализуемых творческих проект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456840" y="928440"/>
            <a:ext cx="74674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Закон РФ «Об образовании» (пункт 6.2 статьи 9)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риказ министерства образования и науки РФ от 23.11.2009 г. №655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Утверждены ФГТ к структуре основной общеобразовательной программы ДО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оложения ФГТ являются основой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труктуры планирования образовательной деятельности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456840" y="428760"/>
            <a:ext cx="7467480" cy="60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Программа должна основываться на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комплексно-тематическом принципе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строения образовательного процесса…»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Программа должна…предусматривать решение образовательных задач в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овместной деятельности взрослого и детей и самостоятельной деятельности детей не только в рамках НОД, но и при проведении режимных моментов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…»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Программа должна… предполагать построение образовательного процесса на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адекватных возрасту формах работы с детьм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456840" y="428760"/>
            <a:ext cx="7467480" cy="60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Примерами построения образовательного процесса по комплексно-тематическому принципу служат вариативные программы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мерная основная общеобразовательная программа дошкольного образования «Успех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От рождения до школы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грамма «Золотой ключик»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грамма «Сообщество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456840" y="214200"/>
            <a:ext cx="7467480" cy="625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Овал 4"/>
          <p:cNvSpPr/>
          <p:nvPr/>
        </p:nvSpPr>
        <p:spPr>
          <a:xfrm flipV="1" rot="10800000">
            <a:off x="2286000" y="928800"/>
            <a:ext cx="4500720" cy="1643040"/>
          </a:xfrm>
          <a:prstGeom prst="ellips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Комплексно-тематический принцип построения образовательного проце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Овал 5"/>
          <p:cNvSpPr/>
          <p:nvPr/>
        </p:nvSpPr>
        <p:spPr>
          <a:xfrm>
            <a:off x="1357200" y="3071880"/>
            <a:ext cx="1285920" cy="914400"/>
          </a:xfrm>
          <a:prstGeom prst="ellips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Овал 6"/>
          <p:cNvSpPr/>
          <p:nvPr/>
        </p:nvSpPr>
        <p:spPr>
          <a:xfrm>
            <a:off x="3857760" y="3500280"/>
            <a:ext cx="1357200" cy="914400"/>
          </a:xfrm>
          <a:prstGeom prst="ellips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Овал 7"/>
          <p:cNvSpPr/>
          <p:nvPr/>
        </p:nvSpPr>
        <p:spPr>
          <a:xfrm>
            <a:off x="6429240" y="3071880"/>
            <a:ext cx="1214640" cy="914400"/>
          </a:xfrm>
          <a:prstGeom prst="ellips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оугольник 8"/>
          <p:cNvSpPr/>
          <p:nvPr/>
        </p:nvSpPr>
        <p:spPr>
          <a:xfrm>
            <a:off x="3842280" y="285840"/>
            <a:ext cx="118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 осно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9" name="Прямая со стрелкой 10"/>
          <p:cNvCxnSpPr/>
          <p:nvPr/>
        </p:nvCxnSpPr>
        <p:spPr>
          <a:xfrm flipH="1">
            <a:off x="2356560" y="2428560"/>
            <a:ext cx="429480" cy="57204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cxnSp>
        <p:nvCxnSpPr>
          <p:cNvPr id="370" name="Прямая со стрелкой 12"/>
          <p:cNvCxnSpPr/>
          <p:nvPr/>
        </p:nvCxnSpPr>
        <p:spPr>
          <a:xfrm flipH="1">
            <a:off x="4570200" y="2643120"/>
            <a:ext cx="3600" cy="64332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cxnSp>
        <p:nvCxnSpPr>
          <p:cNvPr id="371" name="Прямая со стрелкой 14"/>
          <p:cNvCxnSpPr/>
          <p:nvPr/>
        </p:nvCxnSpPr>
        <p:spPr>
          <a:xfrm>
            <a:off x="6143760" y="2428560"/>
            <a:ext cx="429120" cy="50076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sp>
        <p:nvSpPr>
          <p:cNvPr id="372" name="Овал 15"/>
          <p:cNvSpPr/>
          <p:nvPr/>
        </p:nvSpPr>
        <p:spPr>
          <a:xfrm>
            <a:off x="2500200" y="5143680"/>
            <a:ext cx="4214880" cy="914400"/>
          </a:xfrm>
          <a:prstGeom prst="ellips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интегр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3" name="Прямая со стрелкой 17"/>
          <p:cNvCxnSpPr/>
          <p:nvPr/>
        </p:nvCxnSpPr>
        <p:spPr>
          <a:xfrm>
            <a:off x="2000160" y="4000320"/>
            <a:ext cx="1215360" cy="121500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cxnSp>
        <p:nvCxnSpPr>
          <p:cNvPr id="374" name="Прямая со стрелкой 19"/>
          <p:cNvCxnSpPr/>
          <p:nvPr/>
        </p:nvCxnSpPr>
        <p:spPr>
          <a:xfrm flipH="1">
            <a:off x="4570200" y="4501800"/>
            <a:ext cx="3600" cy="50076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cxnSp>
        <p:nvCxnSpPr>
          <p:cNvPr id="375" name="Прямая со стрелкой 21"/>
          <p:cNvCxnSpPr/>
          <p:nvPr/>
        </p:nvCxnSpPr>
        <p:spPr>
          <a:xfrm flipH="1">
            <a:off x="5857200" y="4071600"/>
            <a:ext cx="1143720" cy="114372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6T09:09:02Z</dcterms:created>
  <dc:creator>Лидер</dc:creator>
  <dc:description/>
  <dc:language>en-US</dc:language>
  <cp:lastModifiedBy>USER</cp:lastModifiedBy>
  <dcterms:modified xsi:type="dcterms:W3CDTF">2013-03-30T15:55:16Z</dcterms:modified>
  <cp:revision>46</cp:revision>
  <dc:subject/>
  <dc:title>«Планирование   образовательного процесса с детьми в условиях реализации                       ФГТ»</dc:title>
</cp:coreProperties>
</file>